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44E-4EC2-4E13-9689-D996E69A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B0C-ED5B-44EA-8A03-3973F22F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45F-C8BB-431B-8C1F-78AE9288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047-1D81-4E46-A10E-B29ABECE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D163C-E5F4-434F-9DB3-DEA06B16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2E715-2673-4012-A314-FB7B5FF7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03893-F3A2-4B7B-92E7-EB25B84E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796C0-E52C-4F70-8874-824BF4CA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FDF6C-C750-4E41-A1E5-B78B3834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1D5B5-B50B-4648-AE83-65CB743F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5D8D5-D0F9-4F30-81A6-D1CA0CB6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14B-B9C7-4537-A39B-D8A305D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7A7FC-E424-483D-9FA7-329AA057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90900-CF7E-4DC0-B329-E0DFAD6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3A0C8-67DE-443E-A391-8A106243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77CCA-3D32-42DD-907D-3C501DC1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9D76C-4D7C-446E-86D2-31AAD602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3B4-997B-4289-9EF0-AED8DEFB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104-901C-4324-8985-5DFAB9D2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C8B-A4A4-4A30-A336-A6853A9D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C55-9E15-4242-A375-620C48C3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961-A8A5-4EF2-8D5E-398B295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F28-ED11-42AD-BB66-00FE546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8E7-397A-4D4B-8633-2C899351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D04F-C63A-459C-83D4-05736959C8E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83C4-671A-4084-92FD-9FB808FE043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592200"/>
            <a:ext cx="7920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项目四  初步认识手机电路结构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7560" y="2787480"/>
            <a:ext cx="798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2" action="ppaction://hlinksldjump"/>
              </a:rPr>
              <a:t>1   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3" action="ppaction://hlinksldjump"/>
              </a:rPr>
              <a:t>手机电路结构分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4" action="ppaction://hlinksldjump"/>
              </a:rPr>
              <a:t>2   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5" action="ppaction://hlinksldjump"/>
              </a:rPr>
              <a:t>手机射频电路分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6" action="ppaction://hlinksldjump"/>
              </a:rPr>
              <a:t>3   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7" action="ppaction://hlinksldjump"/>
              </a:rPr>
              <a:t>手机逻辑/音频电路及输入/输出（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8" action="ppaction://hlinksldjump"/>
              </a:rPr>
              <a:t>I/O）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9" action="ppaction://hlinksldjump"/>
              </a:rPr>
              <a:t>接口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手机电源电路分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手机电路结构综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447840"/>
            <a:ext cx="762012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   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手机电路结构描述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934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射频电路部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接收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发射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频率合成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间隔工作的收发部分受控电源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逻辑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音频电路部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逻辑控制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音频处理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接口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电源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19920"/>
            <a:ext cx="533160" cy="457200"/>
          </a:xfrm>
          <a:custGeom>
            <a:avLst/>
            <a:gdLst>
              <a:gd name="textAreaLeft" fmla="*/ 177840 w 533160"/>
              <a:gd name="textAreaRight" fmla="*/ 456840 w 53316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71160"/>
            <a:ext cx="762012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   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手机电路结构分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8907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图2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136000" cy="4608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0920" y="6095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GSM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手机电路原理基本组成框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44000" y="6165720"/>
            <a:ext cx="533160" cy="457200"/>
          </a:xfrm>
          <a:custGeom>
            <a:avLst/>
            <a:gdLst>
              <a:gd name="textAreaLeft" fmla="*/ 177840 w 533160"/>
              <a:gd name="textAreaRight" fmla="*/ 456840 w 53316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37880" y="312840"/>
            <a:ext cx="76294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  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手机射频电路分析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1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接收电路部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895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接收" descr=""/>
          <p:cNvPicPr/>
          <p:nvPr/>
        </p:nvPicPr>
        <p:blipFill>
          <a:blip r:embed="rId2"/>
          <a:srcRect l="0" t="0" r="9745" b="82866"/>
          <a:stretch/>
        </p:blipFill>
        <p:spPr>
          <a:xfrm>
            <a:off x="611280" y="1989000"/>
            <a:ext cx="8208720" cy="1497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47640" y="357336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般有四种基本的电路结构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超外差一次变频接收电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超外差二次变频接收电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低中频接收电路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直接变频线性接收电路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586728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2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发射电路部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89540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3" descr=""/>
          <p:cNvPicPr/>
          <p:nvPr/>
        </p:nvPicPr>
        <p:blipFill>
          <a:blip r:embed="rId2"/>
          <a:srcRect l="32714" t="0" r="0" b="68504"/>
          <a:stretch/>
        </p:blipFill>
        <p:spPr>
          <a:xfrm>
            <a:off x="179280" y="1413000"/>
            <a:ext cx="8748720" cy="252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5280" y="411480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般有三种电路结构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带偏移锁相环的发射电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带发射上变频器的发射电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直接变频的发射电路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001000" y="586728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3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频率合成器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1438200"/>
            <a:ext cx="8026560" cy="4870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手机逻辑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音频电路及输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输出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/O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接口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1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音频信号处理部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669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13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821844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172360" y="602136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2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系统逻辑控制部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11811" t="41575" r="19370" b="22677"/>
          <a:stretch/>
        </p:blipFill>
        <p:spPr>
          <a:xfrm>
            <a:off x="250920" y="1268280"/>
            <a:ext cx="8601120" cy="4897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317080" y="6165720"/>
            <a:ext cx="533160" cy="457200"/>
          </a:xfrm>
          <a:custGeom>
            <a:avLst/>
            <a:gdLst>
              <a:gd name="textAreaLeft" fmla="*/ 177840 w 533160"/>
              <a:gd name="textAreaRight" fmla="*/ 456840 w 53316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71160"/>
            <a:ext cx="762012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.3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输入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输出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I/O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接口部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89540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18" descr=""/>
          <p:cNvPicPr/>
          <p:nvPr/>
        </p:nvPicPr>
        <p:blipFill>
          <a:blip r:embed="rId2"/>
          <a:stretch/>
        </p:blipFill>
        <p:spPr>
          <a:xfrm>
            <a:off x="468360" y="1752480"/>
            <a:ext cx="814212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101080" y="6165720"/>
            <a:ext cx="533160" cy="457200"/>
          </a:xfrm>
          <a:custGeom>
            <a:avLst/>
            <a:gdLst>
              <a:gd name="textAreaLeft" fmla="*/ 177840 w 533160"/>
              <a:gd name="textAreaRight" fmla="*/ 456840 w 53316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47840"/>
            <a:ext cx="762012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  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手机电源电路分析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108160"/>
            <a:ext cx="624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手机电源的基本电路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电池识别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开机信号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直流稳压电源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升压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机内充电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非受控电源输出电路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受控电源输出电路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86728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11:16Z</dcterms:modified>
  <cp:revision>48</cp:revision>
  <dc:subject/>
  <dc:title>PowerPoint Presentation</dc:title>
</cp:coreProperties>
</file>